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32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46240" y="0"/>
            <a:ext cx="2943000" cy="495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32400" cy="446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0" y="942192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46240" y="9421920"/>
            <a:ext cx="2943000" cy="495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F686EB-70F0-431E-94B0-57096418D2A7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32400" cy="446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509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102520" cy="23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83920" y="3607200"/>
            <a:ext cx="8102520" cy="23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509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3953880" cy="23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5800" y="990720"/>
            <a:ext cx="3953880" cy="23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3920" y="3607200"/>
            <a:ext cx="3953880" cy="23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5800" y="3607200"/>
            <a:ext cx="3953880" cy="23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509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2608920" cy="23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23520" y="990720"/>
            <a:ext cx="2608920" cy="23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3480" y="990720"/>
            <a:ext cx="2608920" cy="23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83920" y="3607200"/>
            <a:ext cx="2608920" cy="23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23520" y="3607200"/>
            <a:ext cx="2608920" cy="23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3480" y="3607200"/>
            <a:ext cx="2608920" cy="23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509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509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509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395388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5800" y="990720"/>
            <a:ext cx="395388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509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509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3953880" cy="23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5800" y="990720"/>
            <a:ext cx="395388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83920" y="3607200"/>
            <a:ext cx="3953880" cy="23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509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395388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5800" y="990720"/>
            <a:ext cx="3953880" cy="23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5800" y="3607200"/>
            <a:ext cx="3953880" cy="23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509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3953880" cy="23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5800" y="990720"/>
            <a:ext cx="3953880" cy="23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83920" y="3607200"/>
            <a:ext cx="8102520" cy="23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15114" t="3282" r="25264" b="3709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d4b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 rot="16200000">
            <a:off x="-2339640" y="2660400"/>
            <a:ext cx="5238720" cy="29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eaeaea"/>
                  </a:solidFill>
                  <a:miter/>
                </a:ln>
                <a:noFill/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www.ffvv.org</a:t>
            </a:r>
            <a:endParaRPr b="0" i="1" lang="en-US" sz="2400" spc="1" strike="noStrike">
              <a:ln w="9360">
                <a:solidFill>
                  <a:srgbClr val="eaeaea"/>
                </a:solidFill>
                <a:miter/>
              </a:ln>
              <a:noFill/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8318520" y="5994360"/>
            <a:ext cx="787320" cy="787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1295280" y="6305040"/>
            <a:ext cx="6731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mmission Sportive - FFV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>
            <a:off x="7467480" y="6308280"/>
            <a:ext cx="1244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859A5-02BD-4717-9C8D-09E10F7EB5B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R&#233;daction%20de%20message%20(info@soaringspot.com)" TargetMode="External"/><Relationship Id="rId2" Type="http://schemas.openxmlformats.org/officeDocument/2006/relationships/hyperlink" Target="http://imp.free.fr/horde/imp/message.php?address=info%40soaringspot.com&amp;name=info%40soaringspot.com&amp;actionID=156&amp;array_index=0&amp;index=18952" TargetMode="External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oaringspot.com/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1920" y="174240"/>
            <a:ext cx="8991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Gestion des Sprints</a:t>
            </a:r>
            <a:br>
              <a:rPr sz="3200"/>
            </a:b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avec SeeYou Competition et SoaringSpo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16240" y="5054400"/>
            <a:ext cx="40258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philippe@depechy.net</a:t>
            </a:r>
            <a:endParaRPr b="0" lang="en-US" sz="1400" spc="-1" strike="noStrike">
              <a:solidFill>
                <a:srgbClr val="ffff66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1.00 - 07 mai 2008</a:t>
            </a:r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41560" y="1311120"/>
            <a:ext cx="4321080" cy="3530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130400" y="4862520"/>
            <a:ext cx="4343400" cy="714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5848200" y="1292400"/>
            <a:ext cx="2514600" cy="35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Sprints et SeeYou-SoaringSpo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83920" y="888480"/>
            <a:ext cx="8102520" cy="50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SeeYou Competition et SoaringSpot ont été conçus pour gérer une compétition classique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Pour les Sprints, il sera nécessaire d’utiliser des contournements ou des astuce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En prenant garde à un ou deux points clés, le gestionnaire des Sprints pourra en quelques clics analyser et publier automatiquement les résultat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Gain global énorme en tem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Solution automatique recommandée (la seule existant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8056440" y="0"/>
            <a:ext cx="1087560" cy="10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Défini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66"/>
                </a:solidFill>
                <a:uFillTx/>
                <a:latin typeface="Arial"/>
              </a:rPr>
              <a:t>Une Compétition</a:t>
            </a: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 : est un ensemble de class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66"/>
                </a:solidFill>
                <a:uFillTx/>
                <a:latin typeface="Arial"/>
              </a:rPr>
              <a:t>Une Classe</a:t>
            </a: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 : est un ensemble de participants jouant sur des épreuves communes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66"/>
                </a:solidFill>
                <a:uFillTx/>
                <a:latin typeface="Arial"/>
              </a:rPr>
              <a:t>Un Participant</a:t>
            </a: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 : est un pilote (ou un équipage) volant sur un planeur (avec un handicap associé). Un participant peut être inscrit dans plusieurs classes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66"/>
                </a:solidFill>
                <a:uFillTx/>
                <a:latin typeface="Arial"/>
              </a:rPr>
              <a:t>Un Sprint</a:t>
            </a: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 : est un challenge dans lequel des participants vont tenter d’effectuer la meilleure vitesse moyenne sur un circuit de référence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Un Sprint sera vu comme une classe pour laquelle le circuit sera identique pour tous les jours d’épreu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Une compétition de Sprints contiendra un ou plusieurs Spri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924680" y="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Points clé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1 fichier CUC de SeeYou contient une et une seule classe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onc il faut un fichier CUC par Sprint (ie par circuit de référenc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Il faut prendre soin d’affecter pour chaque jour d’épreuve dans un CUC de Sprint le même circuit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Le fichier CUC fourni dans le Kit Sprint contient des formules de scoring adaptées :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core journalier du pilote = sa vitesse moyenne du jour après application du handicap mach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core général du pilote = son meilleur score journalier (ie sa meilleure vitesse moyen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924680" y="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Points clés : Règle 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84280" y="990720"/>
            <a:ext cx="839448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SeeYou Compétition n’est pas prévu pour qu’un pilote puisse changer de planeur (et de handicap) au cours de la compétition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Règle dans le cas d’un concurrent participant à un Sprint sur différents types de machines :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Créer autant de fiches pilotes que de planeurs utilisés par un concurr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xemple si Jean Durand participe à un Sprint sur le LS8 « ER » puis sur le Pégase « EG », créez deux concurrents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d4b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6d4b53"/>
                </a:solidFill>
                <a:latin typeface="Arial"/>
              </a:rPr>
              <a:t>Nom : Jean Durand / Type planeur : LS8 / NC : ER / Index : 108</a:t>
            </a:r>
            <a:endParaRPr b="0" i="1" lang="en-US" sz="1800" spc="-1" strike="noStrike">
              <a:solidFill>
                <a:srgbClr val="6d4b53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d4b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6d4b53"/>
                </a:solidFill>
                <a:latin typeface="Arial"/>
              </a:rPr>
              <a:t>Nom : Jean Durand / Type planeur : Pégase / NC : EG / Index : 104</a:t>
            </a:r>
            <a:endParaRPr b="0" i="1" lang="en-US" sz="1800" spc="-1" strike="noStrike">
              <a:solidFill>
                <a:srgbClr val="6d4b53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d4b53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924680" y="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Points clés : Règle 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SeeYou Compétition n’est pas prévu pour qu’un planeur (n° de concours) puisse être utilisé par plusieurs pilotes dans une même classe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Règle dans le cas d’un planeur utilisé par plusieurs pilotes :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Faites en sorte que les numéros de concours soient uniques dans la clas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Ex : si le planeur « ER » est utilisé par 3 pilotes, saisisez comme n° de concours : ER, ER1, ER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924680" y="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Points clés : Règle 3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SeeYou Compétition n’est pas prévu pour qu’un même enregistreur puisse servir à plusieurs pilotes dans une même classe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Règle :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 saisissez pas de n° d’enregistreur dans la fiche pilote (pas d’évaluation automatiqu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Affectez manuellement chaque vol à chaque pilote (cf exemple sur diapos suivantes présentant la création et la gestion d’un spri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924680" y="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tape 1 : Créer un compte personnel </a:t>
            </a:r>
            <a:br>
              <a:rPr sz="2800"/>
            </a:b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sur SoaringSpo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83920" y="14479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Connectez vous sur http://www.soaringspot.com  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Cliquez sur « Sign in » puis «Not registered yet »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843200" y="2292480"/>
            <a:ext cx="4924440" cy="3166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479760" y="4216320"/>
            <a:ext cx="1054080" cy="304920"/>
          </a:xfrm>
          <a:prstGeom prst="ellipse">
            <a:avLst/>
          </a:prstGeom>
          <a:noFill/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267760" y="0"/>
            <a:ext cx="87624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tape 2 : Créer une nouvelle compétition</a:t>
            </a:r>
            <a:br>
              <a:rPr sz="2800"/>
            </a:b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dans SoaringSpo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Une fois votre compte créé, connectez-vous (« Sign in »)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Vous pourrez alors créer une compétition en cliquant sur « Register new competiton »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604880" y="2246400"/>
            <a:ext cx="6112080" cy="4270320"/>
            <a:chOff x="1604880" y="2246400"/>
            <a:chExt cx="6112080" cy="427032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1604880" y="2246400"/>
              <a:ext cx="6112080" cy="427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1930320" y="5255640"/>
              <a:ext cx="1348200" cy="228240"/>
            </a:xfrm>
            <a:prstGeom prst="ellipse">
              <a:avLst/>
            </a:prstGeom>
            <a:noFill/>
            <a:ln w="82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248680" y="0"/>
            <a:ext cx="89532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tape 2 : Créer une nouvelle compétition</a:t>
            </a:r>
            <a:br>
              <a:rPr sz="2800"/>
            </a:b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dans SoaringSpo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83920" y="1689120"/>
            <a:ext cx="810252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La classe dans SeeYouCompétition est purement informative.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’influence pas le calcul des po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Elle permet de faire un lien avec la classe dans SoaringSpot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248680" y="0"/>
            <a:ext cx="89532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xemple concr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Nous allons suivre la création du Sprint de Brocéliande pour le club de Ploërmel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711440" y="2108160"/>
            <a:ext cx="5619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Sommai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387520" y="1009440"/>
            <a:ext cx="675648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Présentation des Sprint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Concep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Beso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Présentations des Outil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SeeYou Compét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Soaring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Exemple de mise en place de Sprints 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avec SeeYou et SoaringSpot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7 étap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280360" y="0"/>
            <a:ext cx="86364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tape 2 : Créer une nouvelle compétition</a:t>
            </a:r>
            <a:br>
              <a:rPr sz="2800"/>
            </a:b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dans SoaringSpo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Une fois le formulaire validé, le serveur SoaringSpot vous enverra un mail contenant une clé identifiant votre compéti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39960" y="2422440"/>
            <a:ext cx="7175520" cy="443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Courier New"/>
                <a:ea typeface="Arial"/>
              </a:rPr>
              <a:t>Date:</a:t>
            </a:r>
            <a:r>
              <a:rPr b="0" sz="1000" spc="-1" strike="noStrike">
                <a:solidFill>
                  <a:srgbClr val="000000"/>
                </a:solidFill>
                <a:latin typeface="Courier New"/>
                <a:ea typeface="Arial"/>
              </a:rPr>
              <a:t> Wed, 7 May 2008 05:52:03 -0400</a:t>
            </a:r>
            <a:br>
              <a:rPr sz="1000"/>
            </a:br>
            <a:r>
              <a:rPr b="1" sz="1000" spc="-1" strike="noStrike">
                <a:solidFill>
                  <a:srgbClr val="000000"/>
                </a:solidFill>
                <a:latin typeface="Courier New"/>
                <a:ea typeface="Arial"/>
              </a:rPr>
              <a:t>De:</a:t>
            </a:r>
            <a:r>
              <a:rPr b="0" sz="1000" spc="-1" strike="noStrike">
                <a:solidFill>
                  <a:srgbClr val="000000"/>
                </a:solidFill>
                <a:latin typeface="Courier New"/>
                <a:ea typeface="Arial"/>
              </a:rPr>
              <a:t> </a:t>
            </a:r>
            <a:r>
              <a:rPr b="0" sz="1000" spc="-1" strike="noStrike" u="sng">
                <a:solidFill>
                  <a:srgbClr val="ffffcc"/>
                </a:solidFill>
                <a:uFillTx/>
                <a:latin typeface="Courier New"/>
                <a:ea typeface="Arial"/>
                <a:hlinkClick r:id="rId1"/>
              </a:rPr>
              <a:t>"info@soaringspot.com" &lt;info@soaringspot.com&gt;</a:t>
            </a:r>
            <a:r>
              <a:rPr b="0" sz="1000" spc="-1" strike="noStrike" u="sng">
                <a:solidFill>
                  <a:srgbClr val="ffffcc"/>
                </a:solidFill>
                <a:uFillTx/>
                <a:latin typeface="Courier New"/>
                <a:ea typeface="Arial"/>
                <a:hlinkClick r:id="rId2"/>
              </a:rPr>
              <a:t> </a:t>
            </a:r>
            <a:br>
              <a:rPr sz="1000"/>
            </a:br>
            <a:r>
              <a:rPr b="1" sz="1000" spc="-1" strike="noStrike">
                <a:solidFill>
                  <a:srgbClr val="000000"/>
                </a:solidFill>
                <a:latin typeface="Courier New"/>
                <a:ea typeface="Arial"/>
              </a:rPr>
              <a:t>À:</a:t>
            </a:r>
            <a:r>
              <a:rPr b="0" sz="1000" spc="-1" strike="noStrike">
                <a:solidFill>
                  <a:srgbClr val="000000"/>
                </a:solidFill>
                <a:latin typeface="Courier New"/>
                <a:ea typeface="Arial"/>
              </a:rPr>
              <a:t> philippe@depechy.net </a:t>
            </a:r>
            <a:br>
              <a:rPr sz="1000"/>
            </a:br>
            <a:r>
              <a:rPr b="1" sz="1000" spc="-1" strike="noStrike">
                <a:solidFill>
                  <a:srgbClr val="000000"/>
                </a:solidFill>
                <a:latin typeface="Courier New"/>
                <a:ea typeface="Arial"/>
              </a:rPr>
              <a:t>Objet:</a:t>
            </a:r>
            <a:r>
              <a:rPr b="0" sz="1000" spc="-1" strike="noStrike">
                <a:solidFill>
                  <a:srgbClr val="000000"/>
                </a:solidFill>
                <a:latin typeface="Courier New"/>
                <a:ea typeface="Arial"/>
              </a:rPr>
              <a:t> SoaringSpot key for sprintsploermel 2unnamedtext/html1,25 KB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sz="1000" spc="-1" strike="noStrike">
                <a:solidFill>
                  <a:srgbClr val="000000"/>
                </a:solidFill>
                <a:latin typeface="Courier New"/>
                <a:ea typeface="Arial"/>
              </a:rPr>
              <a:t>Dear Philippe de Pechy!</a:t>
            </a:r>
            <a:br>
              <a:rPr sz="1000"/>
            </a:br>
            <a:br>
              <a:rPr sz="1000"/>
            </a:br>
            <a:r>
              <a:rPr b="0" sz="1000" spc="-1" strike="noStrike">
                <a:solidFill>
                  <a:srgbClr val="000000"/>
                </a:solidFill>
                <a:latin typeface="Courier New"/>
                <a:ea typeface="Arial"/>
              </a:rPr>
              <a:t>You have successfully registered a new competition at Soaring Spot:</a:t>
            </a:r>
            <a:br>
              <a:rPr sz="1000"/>
            </a:br>
            <a:br>
              <a:rPr sz="1000"/>
            </a:br>
            <a:r>
              <a:rPr b="0" sz="1000" spc="-1" strike="noStrike">
                <a:solidFill>
                  <a:srgbClr val="000000"/>
                </a:solidFill>
                <a:latin typeface="Courier New"/>
                <a:ea typeface="Arial"/>
              </a:rPr>
              <a:t>Sprints de PloÃ«rmel:</a:t>
            </a:r>
            <a:br>
              <a:rPr sz="1000"/>
            </a:br>
            <a:r>
              <a:rPr b="0" sz="1000" spc="-1" strike="noStrike">
                <a:solidFill>
                  <a:srgbClr val="000000"/>
                </a:solidFill>
                <a:latin typeface="Courier New"/>
                <a:ea typeface="Arial"/>
              </a:rPr>
              <a:t>http://www.soaringspot.com/sprintsploermel/</a:t>
            </a:r>
            <a:br>
              <a:rPr sz="1000"/>
            </a:br>
            <a:br>
              <a:rPr sz="1000"/>
            </a:br>
            <a:r>
              <a:rPr b="0" sz="1000" spc="-1" strike="noStrike">
                <a:solidFill>
                  <a:srgbClr val="000000"/>
                </a:solidFill>
                <a:latin typeface="Courier New"/>
                <a:ea typeface="Arial"/>
              </a:rPr>
              <a:t>To administer your competition you will need to enter this key in your account at Soaring Spot:</a:t>
            </a:r>
            <a:br>
              <a:rPr sz="1000"/>
            </a:br>
            <a:r>
              <a:rPr b="0" sz="1000" spc="-1" strike="noStrike">
                <a:solidFill>
                  <a:srgbClr val="000000"/>
                </a:solidFill>
                <a:latin typeface="Courier New"/>
                <a:ea typeface="Arial"/>
              </a:rPr>
              <a:t>Serial number: 02136, Key: </a:t>
            </a:r>
            <a:r>
              <a:rPr b="1" sz="1000" spc="-1" strike="noStrike">
                <a:solidFill>
                  <a:srgbClr val="ff3399"/>
                </a:solidFill>
                <a:latin typeface="Courier New"/>
                <a:ea typeface="Arial"/>
              </a:rPr>
              <a:t>ABCD-EFGH-IJKL-MNOP</a:t>
            </a:r>
            <a:r>
              <a:rPr b="0" sz="1000" spc="-1" strike="noStrike">
                <a:solidFill>
                  <a:srgbClr val="000000"/>
                </a:solidFill>
                <a:latin typeface="Courier New"/>
                <a:ea typeface="Arial"/>
              </a:rPr>
              <a:t>, Competition Key for Soaring Spot</a:t>
            </a:r>
            <a:br>
              <a:rPr sz="1000"/>
            </a:br>
            <a:br>
              <a:rPr sz="1000"/>
            </a:br>
            <a:r>
              <a:rPr b="0" sz="1000" spc="-1" strike="noStrike">
                <a:solidFill>
                  <a:srgbClr val="000000"/>
                </a:solidFill>
                <a:latin typeface="Courier New"/>
                <a:ea typeface="Arial"/>
              </a:rPr>
              <a:t>You need to enter this key in SeeYou Competition in order to be able to upload results to Soaring Spot later. You should enter it through Edit &gt; Contest properties &gt; Options &gt; Registration key. Make sure that the class you have selected in CUC file is exactly the same as the one you have setup at Soaring Spot.</a:t>
            </a:r>
            <a:br>
              <a:rPr sz="1000"/>
            </a:br>
            <a:br>
              <a:rPr sz="1000"/>
            </a:br>
            <a:r>
              <a:rPr b="0" sz="1000" spc="-1" strike="noStrike">
                <a:solidFill>
                  <a:srgbClr val="000000"/>
                </a:solidFill>
                <a:latin typeface="Courier New"/>
                <a:ea typeface="Arial"/>
              </a:rPr>
              <a:t>At Soaring Spot you need to sign in to your account at http://www.soaringspot.com/myaccount/. There you can enter the key to the Registration key field in order to change the settings for this competition. Make sure only trusted people have access to this key.</a:t>
            </a:r>
            <a:br>
              <a:rPr sz="1000"/>
            </a:br>
            <a:br>
              <a:rPr sz="1000"/>
            </a:br>
            <a:r>
              <a:rPr b="0" sz="1000" spc="-1" strike="noStrike">
                <a:solidFill>
                  <a:srgbClr val="000000"/>
                </a:solidFill>
                <a:latin typeface="Courier New"/>
                <a:ea typeface="Arial"/>
              </a:rPr>
              <a:t>Enjoy using SoaringSpot.com!</a:t>
            </a:r>
            <a:br>
              <a:rPr sz="1000"/>
            </a:br>
            <a:r>
              <a:rPr b="0" sz="1000" spc="-1" strike="noStrike">
                <a:solidFill>
                  <a:srgbClr val="000000"/>
                </a:solidFill>
                <a:latin typeface="Courier New"/>
                <a:ea typeface="Arial"/>
              </a:rPr>
              <a:t>The SoaringSpot Te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84400" y="4597560"/>
            <a:ext cx="1613160" cy="304560"/>
          </a:xfrm>
          <a:prstGeom prst="ellipse">
            <a:avLst/>
          </a:prstGeom>
          <a:noFill/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8217000" y="0"/>
            <a:ext cx="92700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tape 2 : Créer une nouvelle compétition</a:t>
            </a:r>
            <a:br>
              <a:rPr sz="2800"/>
            </a:b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dans SoaringSpo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Dans un navigateur web, tout un chacun peut maintenant accéder à votre page en tappant comme adresse :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http://www.soaringspot.com/votre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Votre code étant le champ « Short competition title » saisi dans le formulaire précédent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x : http://www.soaringspot.com/sprintsploerme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6221"/>
          <a:stretch/>
        </p:blipFill>
        <p:spPr>
          <a:xfrm>
            <a:off x="1660680" y="3732120"/>
            <a:ext cx="5038560" cy="31258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8534520" y="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tape 2 : Créer une nouvelle compétition dans SoaringSpo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83920" y="1701360"/>
            <a:ext cx="81025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Conservez précieusement ce code car il est indispensable :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Pour modifier la compétition via le serveur web SoaringSpot ou ajouter des informations, des fichiers à télécharger, et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Pour publier les résultats via SeeYouCompét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534520" y="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tape 3  : Etablir une base de circuits de référence dans SeeYo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Afin d’éviter de redéfinir chaque jour les circuits, il est judicieux d’utiliser SeeYou afin de créer une base de points de virage et de circuits.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Une fois établies, on sauvegardera ces bases au format *.CUP afin de la publier et réutiliser.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Dans notre exemple, il existe une base Bretagne2008-101.CUP que nous avons chargé dans SeeYou. Elle contient 5 circuits dans le Sprint de Brocéliande.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590840" y="3035160"/>
            <a:ext cx="6495840" cy="38228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8247240" y="0"/>
            <a:ext cx="896760" cy="8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tape 4 : Créer une classe </a:t>
            </a:r>
            <a:br>
              <a:rPr sz="2800"/>
            </a:b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dans SeeYou Competi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796284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Créez un répertoire dans lequel vous gérerez vos sprints avec un sous répertoire pour chacun d’eux. 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0" t="0" r="0" b="12309"/>
          <a:stretch/>
        </p:blipFill>
        <p:spPr>
          <a:xfrm>
            <a:off x="2533680" y="1973160"/>
            <a:ext cx="4705200" cy="380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8272440" y="0"/>
            <a:ext cx="87156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tape 4 : Créer une classe dans SeeYou Competi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796284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Copiez les fichiers du kit Sprint dans chaque répertoire de Sprint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rcRect l="0" t="0" r="0" b="15822"/>
          <a:stretch/>
        </p:blipFill>
        <p:spPr>
          <a:xfrm>
            <a:off x="2206800" y="1897200"/>
            <a:ext cx="4705200" cy="3647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8272440" y="0"/>
            <a:ext cx="87156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tape 4 : Créer une classe dans SeeYou Competi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796284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Renommez le fichier KitSprints-xxx.cuc selon le nom de votre Sprint (ex : SprintBroceliande.cuc)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143080" y="1820880"/>
            <a:ext cx="4705560" cy="36226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8272440" y="0"/>
            <a:ext cx="87156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tape 4 : Lancer SeeYou Compéti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Pour lancer SeeYou en mode Compétition, il suffit de double cliquer sur un fichier *.CUC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Cliquez sur le fichier *.CUC que vous venez de renommer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52440" y="2257560"/>
            <a:ext cx="8601120" cy="38005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8209080" y="0"/>
            <a:ext cx="93492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tape 4 : Propriétés de la Compéti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Une fois ouvert, cliquez sur l’icône « Propriétés de la compétition »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Saisissez dans l’onglet « Général » les informations de votre sprint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014640" y="2936880"/>
            <a:ext cx="3152880" cy="38322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rcRect l="0" t="0" r="0" b="70847"/>
          <a:stretch/>
        </p:blipFill>
        <p:spPr>
          <a:xfrm>
            <a:off x="1495440" y="1927080"/>
            <a:ext cx="6480000" cy="8352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7581960" y="2260440"/>
            <a:ext cx="495360" cy="304920"/>
          </a:xfrm>
          <a:prstGeom prst="ellipse">
            <a:avLst/>
          </a:prstGeom>
          <a:noFill/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8209080" y="0"/>
            <a:ext cx="93492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tape 4 : Propriétés de la Compéti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Dans l’onglet « Options  », recopiez la clé SoaringSpot que vous avez reçue par mail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773440" y="1690560"/>
            <a:ext cx="3800520" cy="46198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629080" y="3657600"/>
            <a:ext cx="2197080" cy="304920"/>
          </a:xfrm>
          <a:prstGeom prst="ellipse">
            <a:avLst/>
          </a:prstGeom>
          <a:noFill/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8209080" y="0"/>
            <a:ext cx="93492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e Spri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83920" y="1688760"/>
            <a:ext cx="5879880" cy="50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Concept introduit par Eric Napoléon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Objectifs :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écouvrir la compétition de façon ludiq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valuer sa performance et progress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ur un circuit de référence </a:t>
            </a:r>
            <a:r>
              <a:rPr b="0" lang="fr-FR" sz="2000" spc="-1" strike="noStrike" u="sng">
                <a:solidFill>
                  <a:srgbClr val="ffffff"/>
                </a:solidFill>
                <a:uFillTx/>
                <a:latin typeface="Arial"/>
              </a:rPr>
              <a:t>comm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d4b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6d4b53"/>
                </a:solidFill>
                <a:latin typeface="Arial"/>
              </a:rPr>
              <a:t>Privilégier la vitesse à la distance</a:t>
            </a:r>
            <a:endParaRPr b="0" i="1" lang="en-US" sz="1800" spc="-1" strike="noStrike">
              <a:solidFill>
                <a:srgbClr val="6d4b5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Voler et jouer </a:t>
            </a:r>
            <a:r>
              <a:rPr b="0" lang="fr-FR" sz="2000" spc="-1" strike="noStrike" u="sng">
                <a:solidFill>
                  <a:srgbClr val="ffffff"/>
                </a:solidFill>
                <a:uFillTx/>
                <a:latin typeface="Arial"/>
              </a:rPr>
              <a:t>ensem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d4b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6d4b53"/>
                </a:solidFill>
                <a:latin typeface="Arial"/>
              </a:rPr>
              <a:t>Tous les niveaux</a:t>
            </a:r>
            <a:endParaRPr b="0" i="1" lang="en-US" sz="1800" spc="-1" strike="noStrike">
              <a:solidFill>
                <a:srgbClr val="6d4b5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d4b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6d4b53"/>
                </a:solidFill>
                <a:latin typeface="Arial"/>
              </a:rPr>
              <a:t>Tous les planeurs</a:t>
            </a:r>
            <a:endParaRPr b="0" i="1" lang="en-US" sz="1800" spc="-1" strike="noStrike">
              <a:solidFill>
                <a:srgbClr val="6d4b5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=&gt; Créer une émulation dans les club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318360" y="1778040"/>
            <a:ext cx="232416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tape 4 : Saisir des concurr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Cliquez sur l’icône « Ajouter des pilotes » pour ajouter un concurrent et saissez ses informations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Les données pilotes à saisir </a:t>
            </a:r>
            <a:br>
              <a:rPr sz="2000"/>
            </a:b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obligatoirement sont :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Prén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N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Index : handicap plane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NC : numéro de concou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70847"/>
          <a:stretch/>
        </p:blipFill>
        <p:spPr>
          <a:xfrm>
            <a:off x="1469880" y="1698480"/>
            <a:ext cx="6480360" cy="8352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699080" y="2070000"/>
            <a:ext cx="380880" cy="266760"/>
          </a:xfrm>
          <a:prstGeom prst="ellipse">
            <a:avLst/>
          </a:prstGeom>
          <a:noFill/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568760" y="2606760"/>
            <a:ext cx="3351240" cy="42512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8145360" y="0"/>
            <a:ext cx="998640" cy="9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tape 4 : Saisir des concurr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La liste des pilotes se construit au fur à et à mesure des ajouts de concurrents. Dans notre exemple nous n’aurons qu’un pilote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A ce stade, la classe est initiée. Il faut maintenant créer des journées d’épreuve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42880" y="1679400"/>
            <a:ext cx="8601120" cy="32958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8145360" y="0"/>
            <a:ext cx="998640" cy="9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tape 5 : Créer une journée de spri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Pour chaque journée durant laquelle au moins un concurrent a accompli le sprint, il est nécessaire de créer une journée d’épreuve grâce au bouton « Ajouter une journée »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70847"/>
          <a:stretch/>
        </p:blipFill>
        <p:spPr>
          <a:xfrm>
            <a:off x="1076400" y="2968560"/>
            <a:ext cx="6480000" cy="835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673520" y="3289320"/>
            <a:ext cx="495360" cy="304920"/>
          </a:xfrm>
          <a:prstGeom prst="ellipse">
            <a:avLst/>
          </a:prstGeom>
          <a:noFill/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8416800" y="0"/>
            <a:ext cx="727200" cy="7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tape 5 : Créer une journée de spri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Saisissez à minima la date et l’altitude de décollage puis cliquez sur « OK »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108240" y="1862280"/>
            <a:ext cx="3791160" cy="48099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8416800" y="0"/>
            <a:ext cx="727200" cy="7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tape 5 : Créer une journée de spri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SeeYou affiche alors l’écran des résultats journaliers corresponda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Il faut maintenant affecter un circuit à cette journée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150920" y="1752480"/>
            <a:ext cx="6334200" cy="34894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8416800" y="0"/>
            <a:ext cx="727200" cy="7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tape 5 : Affecter un circuit à une journé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Dans Menu-&gt;Edition cliquez sur « Assigner un circuit »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Une fenêtre contant la base des circuits actifs dans SeeYou est affichée. Sélectionnez le circuit correspondant à votre sprint (ici le Sprint de Brocéliande)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469880" y="2414520"/>
            <a:ext cx="6077160" cy="30956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8416800" y="0"/>
            <a:ext cx="727200" cy="7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tape 5 : Affecter un circuit à une journé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83920" y="825120"/>
            <a:ext cx="8102520" cy="50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Les paramètres du circuit sont automatiquement recopiés à l’identique dans la journée d’épreuve.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On peut maintenant analyser la performance des concurrent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049400" y="1523880"/>
            <a:ext cx="6880320" cy="37893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8416800" y="0"/>
            <a:ext cx="727200" cy="7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tape 6 : Analyser les performances journalières des concurr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Double-cliquez sur le nom du pilote dans la grille des résultats journaliers afin d’obtenir la fiche correspondante :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90680" y="1795320"/>
            <a:ext cx="8162640" cy="32673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403880" y="2238480"/>
            <a:ext cx="3790800" cy="46195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8280360" y="0"/>
            <a:ext cx="86364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tape 6 : Analyser les performances journalières des concurr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84280" y="990720"/>
            <a:ext cx="445752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Cliquez sur « Parcourir » afin de sélectionner manuellement le fichier d’enregistrement de vol correspondant à ce pilote pour cette journée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SeeYou va ensuite mesurer la performance (distance, vitesse) et le score associé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Validez en cliquant sur OK ou modifier manuellement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5524560" y="1028880"/>
            <a:ext cx="3416400" cy="16160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5513400" y="2822400"/>
            <a:ext cx="3062160" cy="37306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8280360" y="0"/>
            <a:ext cx="86364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tape 6 : Analyser les performances journalières des concurr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46120" y="1053720"/>
            <a:ext cx="7988400" cy="50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Répétez cette opération pour tous les concurrents ayant participé au sprint durant cette journée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Vous obtenez alors le classement journalier et le score général à ce jour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68160" y="2468520"/>
            <a:ext cx="8163000" cy="32670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8280360" y="0"/>
            <a:ext cx="86364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es besoins pour réaliser des Spri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71320" y="7621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Indispensables :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1 ou plusieurs animateurs dans le club incitant les membres à particip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1 ou plusieurs circuit de référ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d4b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6d4b53"/>
                </a:solidFill>
                <a:latin typeface="Arial"/>
              </a:rPr>
              <a:t>Coordonnées des points</a:t>
            </a:r>
            <a:endParaRPr b="0" i="1" lang="en-US" sz="1800" spc="-1" strike="noStrike">
              <a:solidFill>
                <a:srgbClr val="6d4b53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d4b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6d4b53"/>
                </a:solidFill>
                <a:latin typeface="Arial"/>
              </a:rPr>
              <a:t>Forme des zones d’observations</a:t>
            </a:r>
            <a:endParaRPr b="0" i="1" lang="en-US" sz="1800" spc="-1" strike="noStrike">
              <a:solidFill>
                <a:srgbClr val="6d4b5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Fortement recommandés :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1 GPS enregistreur par planeur particip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d4b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6d4b53"/>
                </a:solidFill>
                <a:latin typeface="Arial"/>
              </a:rPr>
              <a:t>Pour permettre une évaluation objective par analyse de la performance</a:t>
            </a:r>
            <a:endParaRPr b="0" i="1" lang="en-US" sz="1800" spc="-1" strike="noStrike">
              <a:solidFill>
                <a:srgbClr val="6d4b5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Outil d’analyse des v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d4b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6d4b53"/>
                </a:solidFill>
                <a:latin typeface="Arial"/>
              </a:rPr>
              <a:t>Pour mesurer la vitesse moyenne de chaque participant, pour contrôler les paramètres (altitudes, etc)</a:t>
            </a:r>
            <a:endParaRPr b="0" i="1" lang="en-US" sz="1800" spc="-1" strike="noStrike">
              <a:solidFill>
                <a:srgbClr val="6d4b5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Recommandés :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ublication des résult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d4b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6d4b53"/>
                </a:solidFill>
                <a:latin typeface="Arial"/>
              </a:rPr>
              <a:t>Affichage dans le club et site web</a:t>
            </a:r>
            <a:endParaRPr b="0" i="1" lang="en-US" sz="1800" spc="-1" strike="noStrike">
              <a:solidFill>
                <a:srgbClr val="6d4b53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46960" y="0"/>
            <a:ext cx="7970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tape 7 : Publier sur Intern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Cliquez sur le bouton « Publish to Internet »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Si votre ordinateur est connecté à Internet, tout est automatiqu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0" t="0" r="0" b="70847"/>
          <a:stretch/>
        </p:blipFill>
        <p:spPr>
          <a:xfrm>
            <a:off x="1521000" y="2435400"/>
            <a:ext cx="6480000" cy="8348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5664240" y="2768760"/>
            <a:ext cx="495360" cy="304560"/>
          </a:xfrm>
          <a:prstGeom prst="ellipse">
            <a:avLst/>
          </a:prstGeom>
          <a:noFill/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4946760" y="3595680"/>
            <a:ext cx="3543120" cy="23335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857160" y="3570120"/>
            <a:ext cx="3543480" cy="23338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8026560" y="0"/>
            <a:ext cx="111744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509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584280" y="990720"/>
            <a:ext cx="8102520" cy="54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509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338040" y="471600"/>
            <a:ext cx="8467920" cy="59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tape 7 : Publier sur Intern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Les fichiers de vol IGC seront automatiquement transférés et rendus public si vous avez indiqué que les résultats journaliers sont non-officiels ou officiel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Aucun envoi de fichiers IGC si résultats préliminai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8089920" y="0"/>
            <a:ext cx="105408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as de compétition comportant</a:t>
            </a:r>
            <a:br>
              <a:rPr sz="2800"/>
            </a:b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plusieurs Spri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Utilisez l’exemple suivant pour une compétition avec 3 Sprints (classes) :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Classe SeeYou (CUC) </a:t>
            </a:r>
            <a:r>
              <a:rPr b="0" lang="fr-FR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</a:t>
            </a: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 Code dans SoaringSpot </a:t>
            </a:r>
            <a:r>
              <a:rPr b="0" lang="fr-FR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</a:t>
            </a: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 Renommage utilisateur SoaringSpo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Club </a:t>
            </a:r>
            <a:r>
              <a:rPr b="0" lang="fr-FR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</a:t>
            </a: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 Club Class </a:t>
            </a:r>
            <a:r>
              <a:rPr b="0" lang="fr-FR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</a:t>
            </a: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 MonSprint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Standard </a:t>
            </a:r>
            <a:r>
              <a:rPr b="0" lang="fr-FR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</a:t>
            </a: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 Standard Class </a:t>
            </a:r>
            <a:r>
              <a:rPr b="0" lang="fr-FR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</a:t>
            </a: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 MonSprint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Classe course </a:t>
            </a:r>
            <a:r>
              <a:rPr b="0" lang="fr-FR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</a:t>
            </a: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 15-meter </a:t>
            </a:r>
            <a:r>
              <a:rPr b="0" lang="fr-FR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</a:t>
            </a: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 MonSprint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Ne renommez pas les classes dans les propriétés de la compétition du fichier SeeYou CUC.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SeeYou et SoaringSpot échangent des identifiants numériques de classe (invisible) et non leurs libell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8352000" y="0"/>
            <a:ext cx="79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509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1060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Trucs et astu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Inviter les participants à déposer le fichier IGC de leur Sprint sur la NetCoupe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Vous les récupérez facilement pour scorer ensuite les Spri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Un bug existe dans SeeYou Compétition lors de la suppression de pilot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vitez la suppression de pilo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Après chaque journée de Sprint, archivez le fichier CUC correspondant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Cela vous permettra de revenir dans cet état en cas de problème ultérie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Publiez sur SoaringSpot votre base de points/circuits et un PDF comportant la fiche des circuits Spri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8424720" y="0"/>
            <a:ext cx="71928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Trucs et astu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Il n’est pas possible de supprimer une compétition de SoaringSpot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En cas d’erreur ou de test, changer la date de la compétition (2003 par exemp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Traitez le fichier CUC sur un seul PC et par des utilisateurs averti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Afin d’éviter les écrasements par deux utilisateurs distants disposant de la clé Soaring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424720" y="0"/>
            <a:ext cx="71928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xemples de Sprints sur SoaringSpo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Les Sprints du CNVV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3 sprints proposés au départ de Saint-Aub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http://www.soaringspot.com/cnvvsprints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Les Sprints de Ploërmel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Sprint de Brocéliande réalisable en local de Plöerm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http://www.soaringspot.com/sprintsploermel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Les Sprints de Bretagne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Sprints communs entre les clubs de Rennes et de Ploërmel (départ à mi-chem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http://www.soaringspot.com/sprintsbzh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8352000" y="0"/>
            <a:ext cx="79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09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53720" y="1917360"/>
            <a:ext cx="4457880" cy="43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ff66"/>
                </a:solidFill>
                <a:latin typeface="Arial"/>
              </a:rPr>
              <a:t>Bons Vols!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ff66"/>
                </a:solidFill>
                <a:latin typeface="Arial"/>
              </a:rPr>
              <a:t>Bons Sprints!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5684760" y="1511280"/>
            <a:ext cx="284328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es outils : SeeYou Compéti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SeeYou : ce logiciel permet 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de gestion de la base de point de vir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de gestion d’une base de circu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d’analyse des enregistrement de v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SeeYou Compétition : ce module inclus dans SeeYou permet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e scoring de compétition = attribuer des points à un ensemble de pilote en fonction de leur performance sur un circuit comm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Automatique ou débrayable manuel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es outils : SoaringSpot.co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Portail web mondial des compétitions vélivoles et de vol libre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www.soaringspot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Services gratuits offert pars Naviter (éditeur de SeeYou)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Gestion de b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Gestion d’un site web de compét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d4b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6d4b53"/>
                </a:solidFill>
                <a:latin typeface="Arial"/>
              </a:rPr>
              <a:t>Téléchargement des documents officiels</a:t>
            </a:r>
            <a:endParaRPr b="0" i="1" lang="en-US" sz="2000" spc="-1" strike="noStrike">
              <a:solidFill>
                <a:srgbClr val="6d4b5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d4b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6d4b53"/>
                </a:solidFill>
                <a:latin typeface="Arial"/>
              </a:rPr>
              <a:t>Infos du jour</a:t>
            </a:r>
            <a:endParaRPr b="0" i="1" lang="en-US" sz="2000" spc="-1" strike="noStrike">
              <a:solidFill>
                <a:srgbClr val="6d4b5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d4b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6d4b53"/>
                </a:solidFill>
                <a:latin typeface="Arial"/>
              </a:rPr>
              <a:t>Galerie photos</a:t>
            </a:r>
            <a:endParaRPr b="0" i="1" lang="en-US" sz="2000" spc="-1" strike="noStrike">
              <a:solidFill>
                <a:srgbClr val="6d4b5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d4b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6d4b53"/>
                </a:solidFill>
                <a:latin typeface="Arial"/>
              </a:rPr>
              <a:t>Publication des résultats automatique via SeeYou</a:t>
            </a:r>
            <a:endParaRPr b="0" i="1" lang="en-US" sz="2000" spc="-1" strike="noStrike">
              <a:solidFill>
                <a:srgbClr val="6d4b53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8064360" y="0"/>
            <a:ext cx="10796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09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es prérequ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Matériel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1 PC sous WindowsXP ou Vi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1 licence SeeYou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d4b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6d4b53"/>
                </a:solidFill>
                <a:latin typeface="Arial"/>
              </a:rPr>
              <a:t>Téléchargez et utilisez toujours la dernière version (3.81 à l’heure de l’édition de ce guide)</a:t>
            </a:r>
            <a:endParaRPr b="0" i="1" lang="en-US" sz="1800" spc="-1" strike="noStrike">
              <a:solidFill>
                <a:srgbClr val="6d4b5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Kit Spr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d4b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6d4b53"/>
                </a:solidFill>
                <a:latin typeface="Arial"/>
              </a:rPr>
              <a:t>Téléchargeable sur http://www.ffvv.org, espace collaboratif « Commission Sportive » (login : FFVV, mot de passe : planeur)</a:t>
            </a:r>
            <a:endParaRPr b="0" i="1" lang="en-US" sz="1800" spc="-1" strike="noStrike">
              <a:solidFill>
                <a:srgbClr val="6d4b5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Connexion inter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d4b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6d4b53"/>
                </a:solidFill>
                <a:latin typeface="Arial"/>
              </a:rPr>
              <a:t>De préference permanente et haut débit</a:t>
            </a:r>
            <a:endParaRPr b="0" i="1" lang="en-US" sz="1800" spc="-1" strike="noStrike">
              <a:solidFill>
                <a:srgbClr val="6d4b5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Connaissances informatiqu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Utilisateur niveau bureautiq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d4b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6d4b53"/>
                </a:solidFill>
                <a:latin typeface="Arial"/>
              </a:rPr>
              <a:t>Maitrise de l’explorateur de fichier</a:t>
            </a:r>
            <a:endParaRPr b="0" i="1" lang="en-US" sz="1800" spc="-1" strike="noStrike">
              <a:solidFill>
                <a:srgbClr val="6d4b5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d4b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6d4b53"/>
                </a:solidFill>
                <a:latin typeface="Arial"/>
              </a:rPr>
              <a:t>Gestion de dossier et archivage</a:t>
            </a:r>
            <a:endParaRPr b="0" i="1" lang="en-US" sz="1800" spc="-1" strike="noStrike">
              <a:solidFill>
                <a:srgbClr val="6d4b5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Ayant le reflexe de consulter la documentation exista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8292960" y="0"/>
            <a:ext cx="851040" cy="8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Sprints vs Compétition classiqu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84280" y="863280"/>
            <a:ext cx="8369280" cy="50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Les Sprints se rapprochent d’une compétition classique :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Groupe de concur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articipant à des épreuves journaliè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erformance individuelle journalière attribuant un score journalier à chaque concurr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A partir duquel un score général est synthétis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Mais avec les variantes suivantes :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Un concurrent peu changer de planeur (et de handica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e circuit est invariant en fonction de la journé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nouveaux concurrents peuvent apparaître en cours de compét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es concurrents ne participent pas forcément le même j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hilippe de Péchy</cp:lastModifiedBy>
  <dcterms:modified xsi:type="dcterms:W3CDTF">2008-05-07T15:06:54Z</dcterms:modified>
  <cp:revision>114</cp:revision>
  <dc:subject/>
  <dc:title>PowerPoint Presentation</dc:title>
</cp:coreProperties>
</file>